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3F1E4-9D00-4346-8A29-3A6A39C6B7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A791C-9DD5-451F-9DD7-211B0CD30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FDEF7F-C3E1-480B-8987-22AD57D0E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9A3095-FDC7-48F9-9432-9AD65849A8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A5EB69-6A69-4CEB-8784-F62D9A0B86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C9A7A9-6285-47A0-B17C-C4CF12599B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733F5A-AAA2-4CE8-8B3B-BCBB3D4C6E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6A8AAE-1520-4ABC-BAA5-AD335C31D9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1B413-5103-4FC9-BAA2-89B603A3BC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7E7053-F065-407C-AA80-0D045D83ED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80436B-3ACD-469A-A156-D593B9054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0EEA1-F4EF-4151-90EB-68DDEED28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6E48F-D13E-4B4F-810D-508E81F49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04B53-B2C7-4911-9D07-D6B55D5A0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4B3158-4644-4D9A-9D0A-193ED67FA5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09787A-1186-4D60-9B76-08F7495D21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1CF37D-C6E8-46DC-BEAF-D1908701C1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E4AC50-E4BC-4A22-8FE2-822BB77317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91DC56-1F13-4F22-9A3C-95BDB99235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6CC15F-38D9-4F99-9F43-200867788C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5CD178-3AB6-4064-81E9-6918D50A01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EB077B-DF0A-4F14-91C2-8144523BC6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2792B-62B7-4282-AFBE-A3C899CF8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4053DC-CD28-4FF0-A844-25E5E45682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F27C3B-9747-4D8B-AA3A-9B57E5052F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455263-CF0E-4AC1-9B16-B6FE82C7C4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CFD987-2830-4AAC-B537-66BEB9F8AC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8AA061-44D5-4D09-8D52-1FC1D8D636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A7E646-4CDC-4571-B8FD-B749F8F3C6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7C92C4-0A81-468C-8902-61516E9432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3D4D87-6C90-4FC6-A17A-BBD847D41F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582DFC-E8D0-4BDB-B15F-A86EF2B10C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D03747-2523-4E9C-80C8-6CD37109CA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697B7-61D8-4208-8B2F-39488AB16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656490-6029-4FDC-AD9F-256F1562D1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D4AFC2-B90F-4140-8221-F2A6396A34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02BDA1-5C0C-41CC-98C0-063CB81B59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7BD17F-BE7B-4006-ACB5-73C1A6AD8C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A38384-20D9-4203-A69D-E9689107D6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5FF68E-B00C-4D4E-ACFC-ACB8AAF127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85E700-AC2C-407E-BDF9-F31C6B0BD1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B4F011-197A-43B3-BF31-AC3B11ABAA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DC23E5-DBC8-4630-88BE-99651F5F71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ADFB98-74B1-40E5-8C2C-489D9C6B80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9711D-AFD9-4145-889E-BA15CBE50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1E7EAA-C66B-4185-B227-D7CE33179A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93E06A-31AD-4763-955A-26D8827FBE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54433B-C945-4613-AD86-9DD7708B51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B144B4-485F-47B7-855C-D9E519D43D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409164-768C-45C7-9284-BBA7F04EF7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AD1475-0E16-4642-8F29-8BFCE836AD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CB4D6C-717A-495A-A03C-1F31A066CC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879EB4-5735-4EEA-8E39-8B6255A100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4DE61F-2203-407C-92A6-2B616DEEDD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014865-28E0-4155-BE3C-1EA2238E3C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D33ED-531F-4B8C-870D-BCEC51161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451C46-A8E6-425F-A7E4-F83FA37713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5A4A50-0FE8-418F-99F3-65E8D5D915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93AD4A-F450-447C-894E-993CCD35A4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E80220-B0AD-49FF-99B8-B1D8A84160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A7A41F-05AA-4730-A8AF-90B8C27821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4188A9-8E11-4872-8682-A979BDDF13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66F248-598B-4162-BEBA-19D9A20169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9ECE2D-B0E0-4EFE-A880-09619B82FC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CDC163-0F61-4C5D-9F8F-86C6CD207F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AFD82D-8884-4F6B-B087-2B5AEDDB59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78660-3B53-404B-BF30-15A26026E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634C99-EB4D-4E7D-84A9-D7D6ED4244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9D80CE-BBDA-4DBE-B664-0C3CB1033EC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2AD09A-2B34-4B01-968C-E23C4A6332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D390EA-69F3-49B5-AAD8-2A1E67F356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CB19FB-D1A7-4B90-A738-AF08AC6F6E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29D780-64F4-441F-89CA-00F1074386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4A0167-5AFF-4E9E-A206-03F5DB71C7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68ECED-D4BA-46F0-8B44-B055DE0CDC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5736CC-5A1F-4B8D-912B-E08DDB44F6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8B0755-D036-4496-85D3-CE7B135F36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E7AB4-B619-45B2-B984-2B45D1D19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38B9F8-D798-48AA-A856-2505210039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1633EF-167D-4D7F-9E3C-D7F4EA57CD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8561DE-BCDB-473C-A4AE-8BA4E74270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E88E73C-6FE6-4918-9740-AEC5AAE12FE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6958DBD-ADBE-4632-8DE4-6E82853971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1BE1B-5274-4D23-940F-80F313C1B7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2" name="10 Anillo"/>
          <p:cNvGrpSpPr/>
          <p:nvPr/>
        </p:nvGrpSpPr>
        <p:grpSpPr>
          <a:xfrm>
            <a:off x="165240" y="1036800"/>
            <a:ext cx="1170000" cy="1170000"/>
            <a:chOff x="165240" y="1036800"/>
            <a:chExt cx="1170000" cy="1170000"/>
          </a:xfrm>
        </p:grpSpPr>
        <p:pic>
          <p:nvPicPr>
            <p:cNvPr id="3" name="10 Anillo"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84220-CDA8-45A0-BF79-10F50EDE60E4}" type="slidenum">
              <a:rPr b="0" lang="es-AR"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49"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0" name="10 Anillo"/>
          <p:cNvGrpSpPr/>
          <p:nvPr/>
        </p:nvGrpSpPr>
        <p:grpSpPr>
          <a:xfrm>
            <a:off x="165240" y="1036800"/>
            <a:ext cx="1170000" cy="1170000"/>
            <a:chOff x="165240" y="1036800"/>
            <a:chExt cx="1170000" cy="1170000"/>
          </a:xfrm>
        </p:grpSpPr>
        <p:pic>
          <p:nvPicPr>
            <p:cNvPr id="51" name="10 Anillo"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3"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4"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5" name="12 Elipse"/>
          <p:cNvGrpSpPr/>
          <p:nvPr/>
        </p:nvGrpSpPr>
        <p:grpSpPr>
          <a:xfrm>
            <a:off x="914400" y="1407960"/>
            <a:ext cx="231840" cy="225720"/>
            <a:chOff x="914400" y="1407960"/>
            <a:chExt cx="231840" cy="225720"/>
          </a:xfrm>
        </p:grpSpPr>
        <p:pic>
          <p:nvPicPr>
            <p:cNvPr id="56" name="12 Elipse"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8" name="13 Elipse"/>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E873F-6549-4C86-A91F-7FD7075EA268}" type="slidenum">
              <a:rPr b="0" lang="es-AR"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12 Rectángulo"/>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1" name="13 Rectángulo"/>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102" name="15 Elipse"/>
          <p:cNvGrpSpPr/>
          <p:nvPr/>
        </p:nvGrpSpPr>
        <p:grpSpPr>
          <a:xfrm>
            <a:off x="2163600" y="2809800"/>
            <a:ext cx="231840" cy="225360"/>
            <a:chOff x="2163600" y="2809800"/>
            <a:chExt cx="231840" cy="225360"/>
          </a:xfrm>
        </p:grpSpPr>
        <p:pic>
          <p:nvPicPr>
            <p:cNvPr id="103" name="15 Elipse"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105" name="16 Elipse"/>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CA1CE-22A2-468C-9F2E-5A343F98FAE7}" type="slidenum">
              <a:rPr b="0" lang="es-AR"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192E8-AA21-4472-8232-EDDEAD774FDB}" type="slidenum">
              <a:rPr b="0" lang="es-AR"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12 Rectángulo"/>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9" name="13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46212-E955-4F47-981F-63CA91F22BE5}" type="slidenum">
              <a:rPr b="0" lang="es-AR"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AF5F6-DB48-4FB1-9407-8E1FEC5ADCB1}" type="slidenum">
              <a:rPr b="0" lang="es-AR"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12 Rectángulo"/>
          <p:cNvGrpSpPr/>
          <p:nvPr/>
        </p:nvGrpSpPr>
        <p:grpSpPr>
          <a:xfrm>
            <a:off x="646200" y="969840"/>
            <a:ext cx="4803840" cy="4802400"/>
            <a:chOff x="646200" y="969840"/>
            <a:chExt cx="4803840" cy="4802400"/>
          </a:xfrm>
        </p:grpSpPr>
        <p:pic>
          <p:nvPicPr>
            <p:cNvPr id="273" name="12 Rectángulo"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275" name="13 Proceso"/>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6" name="15 Proceso"/>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AE453-71D6-4B3B-9CF1-65289FD25B53}" type="slidenum">
              <a:rPr b="0" lang="es-AR"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300" spc="-1" strike="noStrike">
                <a:solidFill>
                  <a:srgbClr val="572314"/>
                </a:solidFill>
                <a:latin typeface="Gill Sans MT"/>
              </a:rPr>
              <a:t>Veracidad de las operaciones</a:t>
            </a:r>
            <a:endParaRPr b="0" lang="en-US" sz="4300" spc="-1" strike="noStrike">
              <a:solidFill>
                <a:srgbClr val="572314"/>
              </a:solidFill>
              <a:latin typeface="Gill Sans MT"/>
            </a:endParaRPr>
          </a:p>
        </p:txBody>
      </p:sp>
      <p:sp>
        <p:nvSpPr>
          <p:cNvPr id="319" name="PlaceHolder 2"/>
          <p:cNvSpPr>
            <a:spLocks noGrp="1"/>
          </p:cNvSpPr>
          <p:nvPr>
            <p:ph type="subTitle"/>
          </p:nvPr>
        </p:nvSpPr>
        <p:spPr>
          <a:xfrm>
            <a:off x="1431720" y="4868640"/>
            <a:ext cx="7407000" cy="158436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320e04"/>
                </a:solidFill>
                <a:latin typeface="Gill Sans MT"/>
              </a:rPr>
              <a:t>Dr. C.P. Marcelo Maroevich</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1 Rectángulo"/>
          <p:cNvSpPr/>
          <p:nvPr/>
        </p:nvSpPr>
        <p:spPr>
          <a:xfrm>
            <a:off x="1187280" y="692280"/>
            <a:ext cx="7848720" cy="736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5f5f5f"/>
                </a:solidFill>
                <a:latin typeface="Arial"/>
              </a:rPr>
              <a:t>Corte Suprema de Justicia de la Nación en la causa Bildown</a:t>
            </a: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aramond"/>
                <a:ea typeface="Times New Roman"/>
              </a:rPr>
              <a:t>Recientemente la Corte Suprema de Justicia de la Nación se expidió en la causa </a:t>
            </a:r>
            <a:r>
              <a:rPr b="0" i="1" lang="es-AR" sz="1600" spc="-1" strike="noStrike">
                <a:solidFill>
                  <a:srgbClr val="000000"/>
                </a:solidFill>
                <a:latin typeface="Garamond"/>
                <a:ea typeface="Times New Roman"/>
              </a:rPr>
              <a:t>“Bildown S.A. c/ AFIP-DGI</a:t>
            </a:r>
            <a:r>
              <a:rPr b="0" lang="es-AR" sz="1600" spc="-1" strike="noStrike">
                <a:solidFill>
                  <a:srgbClr val="000000"/>
                </a:solidFill>
                <a:latin typeface="Garamond"/>
                <a:ea typeface="Times New Roman"/>
              </a:rPr>
              <a:t> donde claramente  recepta la doctrina del caso </a:t>
            </a:r>
            <a:r>
              <a:rPr b="0" i="1" lang="es-AR" sz="1600" spc="-1" strike="noStrike">
                <a:solidFill>
                  <a:srgbClr val="000000"/>
                </a:solidFill>
                <a:latin typeface="Garamond"/>
                <a:ea typeface="Times New Roman"/>
              </a:rPr>
              <a:t>“Tradigrain”</a:t>
            </a:r>
            <a:r>
              <a:rPr b="0" lang="es-AR" sz="1600" spc="-1" strike="noStrike">
                <a:solidFill>
                  <a:srgbClr val="000000"/>
                </a:solidFill>
                <a:latin typeface="Garamond"/>
                <a:ea typeface="Times New Roman"/>
              </a:rPr>
              <a:t> y  descarta la posibilidad de que al contribuyente se le achaque el desconocimiento de información a la que sólo la AFIP puede acceder.</a:t>
            </a:r>
            <a:endParaRPr b="0" lang="en-US" sz="1600" spc="-1" strike="noStrike">
              <a:solidFill>
                <a:srgbClr val="000000"/>
              </a:solidFill>
              <a:latin typeface="Gill Sans MT"/>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aramond"/>
                <a:ea typeface="Times New Roman"/>
              </a:rPr>
              <a:t>La CSJN, remitiéndose a lo dictaminado por la Procuradora Fiscal, rechazó la postura de la AFIP y concluyó que </a:t>
            </a:r>
            <a:r>
              <a:rPr b="0" i="1" lang="es-AR" sz="1600" spc="-1" strike="noStrike">
                <a:solidFill>
                  <a:srgbClr val="000000"/>
                </a:solidFill>
                <a:latin typeface="Garamond"/>
                <a:ea typeface="Times New Roman"/>
              </a:rPr>
              <a:t>“no existe precepto alguno que subordine el derecho a la restitución del IVA del exportador al cumplimiento de las obligaciones sustantivas por parte de los terceros con los que él operó. Por otro lado, tengo para mí que pretender ello conduce a dos inaceptables conclusiones. En primer lugar, </a:t>
            </a:r>
            <a:r>
              <a:rPr b="1" i="1" lang="es-AR" sz="1600" spc="-1" strike="noStrike">
                <a:solidFill>
                  <a:srgbClr val="000000"/>
                </a:solidFill>
                <a:latin typeface="Garamond"/>
                <a:ea typeface="Times New Roman"/>
              </a:rPr>
              <a:t>equivale a constituir al contribuyente en una suerte de responsable del cumplimiento de la obligación sustantiva de otros, sin norma legal que así lo establezca</a:t>
            </a:r>
            <a:r>
              <a:rPr b="0" i="1" lang="es-AR" sz="1600" spc="-1" strike="noStrike">
                <a:solidFill>
                  <a:srgbClr val="000000"/>
                </a:solidFill>
                <a:latin typeface="Garamond"/>
                <a:ea typeface="Times New Roman"/>
              </a:rPr>
              <a:t>. Y en segundo término, </a:t>
            </a:r>
            <a:r>
              <a:rPr b="1" i="1" lang="es-AR" sz="1600" spc="-1" strike="noStrike">
                <a:solidFill>
                  <a:srgbClr val="000000"/>
                </a:solidFill>
                <a:latin typeface="Garamond"/>
                <a:ea typeface="Times New Roman"/>
              </a:rPr>
              <a:t>lleva a que el Fisco se vea liberado de su inexcusable deber de verificar, fiscalizar y cobrar las sumas adeudadas por los contribuyentes, mediante la transferencia de esa responsabilidad hacia un tercero, como dije, sin ley que así lo autorice</a:t>
            </a:r>
            <a:r>
              <a:rPr b="0" i="1" lang="es-AR" sz="1600" spc="-1" strike="noStrike">
                <a:solidFill>
                  <a:srgbClr val="000000"/>
                </a:solidFill>
                <a:latin typeface="Garamond"/>
                <a:ea typeface="Times New Roman"/>
              </a:rPr>
              <a:t>. </a:t>
            </a:r>
            <a:r>
              <a:rPr b="1" i="1" lang="es-AR" sz="1600" spc="-1" strike="noStrike">
                <a:solidFill>
                  <a:srgbClr val="000000"/>
                </a:solidFill>
                <a:latin typeface="Garamond"/>
                <a:ea typeface="Times New Roman"/>
              </a:rPr>
              <a:t>sin que pueda admitirse, como indebidamente lo pretende aquí, involucrar a un tercero en violación al principio de reserva de ley en materia tributaria</a:t>
            </a:r>
            <a:r>
              <a:rPr b="0" i="1" lang="es-AR" sz="1600" spc="-1" strike="noStrike">
                <a:solidFill>
                  <a:srgbClr val="000000"/>
                </a:solidFill>
                <a:latin typeface="Garamond"/>
                <a:ea typeface="Times New Roman"/>
              </a:rPr>
              <a:t>” </a:t>
            </a:r>
            <a:endParaRPr b="0" lang="en-US" sz="16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aramond"/>
                <a:ea typeface="Times New Roman"/>
              </a:rPr>
              <a:t>LA SENTENCIA DE LA CAUSA </a:t>
            </a:r>
            <a:r>
              <a:rPr b="0" i="1" lang="es-AR" sz="1600" spc="-1" strike="noStrike">
                <a:solidFill>
                  <a:srgbClr val="000000"/>
                </a:solidFill>
                <a:latin typeface="Garamond"/>
                <a:ea typeface="Times New Roman"/>
              </a:rPr>
              <a:t>“BILDOWN”</a:t>
            </a:r>
            <a:r>
              <a:rPr b="0" lang="es-AR" sz="1600" spc="-1" strike="noStrike">
                <a:solidFill>
                  <a:srgbClr val="000000"/>
                </a:solidFill>
                <a:latin typeface="Garamond"/>
                <a:ea typeface="Times New Roman"/>
              </a:rPr>
              <a:t> DESCUBRE LOS VICIOS CONSTITUCIONALES, LEGALES Y ÉTICOS QUE ENTRAÑA LA PRETENSIÓN DE LA AFIP CONSISTENTE EN “COBRARSE” DE UN CONTRIBUYENTE LO QUE OTRO LE DEBE SÓLO PORQUE ESTA MANERA DE PROCEDER LE RESULTA MÁS PRÁCTICA Y MÁS CÓMODA, Y DE ABDICAR A SUS OBLIGACIONES DE VERIFICACIÓN Y FISCALIZACIÓN PARA TRASLADARLAS A LOS CONTRIBUYENTES QUE NO SÓLO NO TIENEN EL DEBER DE ASUMIRLAS SINO QUE TAMPOCO CUENTAN CON EL ACCESO A LA INFORMACIÓN NECESARIA PARA HACERLO.</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1 Rectángulo"/>
          <p:cNvSpPr/>
          <p:nvPr/>
        </p:nvSpPr>
        <p:spPr>
          <a:xfrm>
            <a:off x="1187280" y="692280"/>
            <a:ext cx="7848720" cy="7284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5f5f5f"/>
                </a:solidFill>
                <a:latin typeface="Arial"/>
              </a:rPr>
              <a:t>CEREALES Y SERVICIOS SRL - TRIB. FISCAL NAC. - SALA D - 28/12/2011</a:t>
            </a:r>
            <a:endParaRPr b="0" lang="en-US" sz="1800" spc="-1" strike="noStrike">
              <a:solidFill>
                <a:srgbClr val="000000"/>
              </a:solidFill>
              <a:latin typeface="Gill Sans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3f8080"/>
                </a:solidFill>
                <a:latin typeface="Arial"/>
              </a:rPr>
              <a:t>Presunta inexistencia de operaciones. Impugnación de créditos fiscales. Irregularidades de los proveedores. Falta de capacidad operativa</a:t>
            </a:r>
            <a:endParaRPr b="0" lang="en-US" sz="1600" spc="-1" strike="noStrike">
              <a:solidFill>
                <a:srgbClr val="000000"/>
              </a:solidFill>
              <a:latin typeface="Gill Sans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aramond"/>
                <a:ea typeface="Times New Roman"/>
              </a:rPr>
              <a:t>No pueden pasarse por alto las observaciones que formula el Fisco cuando remarca la falta de capacidad operativa de los proveedores que fueron objetados a los que endilga la caracterización de grupo especializado que ha montado un disfraz jurídico que demuestra una superación de la malicia pero omite toda mención respecto de las posibilidades con las que cuentan los contribuyentes que contratan con ellos, para detectar las falencias que el Fisco demuestra conocer tan bien pero que no las pone al alcance de aquellos, a pesar de los medios de que dispone para evitar así que incurran en las conductas que luego censura. </a:t>
            </a:r>
            <a:endParaRPr b="0" lang="en-US" sz="1800" spc="-1" strike="noStrike">
              <a:solidFill>
                <a:srgbClr val="000000"/>
              </a:solidFill>
              <a:latin typeface="Gill Sans MT"/>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aramond"/>
                <a:ea typeface="Times New Roman"/>
              </a:rPr>
              <a:t>No resulta atendible que se reproche a la recurrente por no haber tomado las precauciones tendientes a controlar la situación de los proveedores, cuando ya es suficiente que de las consultas a la base informática del Fisco Nacional se compruebe que los comprobantes emitidos contaban con la autorización de impresión correspondientes y que a la fecha de las operaciones ninguno de ellos estaba incluido en la base Apoc, ya que este es el más eficaz de los instrumentos que ofrece la AFIP a los contribuyentes para controlar la situación fiscal de sus proveedores (del voto del Dr. Brodsky). </a:t>
            </a:r>
            <a:endParaRPr b="0" lang="en-US" sz="1800" spc="-1" strike="noStrike">
              <a:solidFill>
                <a:srgbClr val="000000"/>
              </a:solidFill>
              <a:latin typeface="Gill Sans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5f5f5f"/>
                </a:solidFill>
                <a:latin typeface="Arial"/>
              </a:rPr>
              <a:t> </a:t>
            </a:r>
            <a:endParaRPr b="0" lang="en-US" sz="1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1 Rectángulo"/>
          <p:cNvSpPr/>
          <p:nvPr/>
        </p:nvSpPr>
        <p:spPr>
          <a:xfrm>
            <a:off x="1619280" y="333360"/>
            <a:ext cx="7200720" cy="644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Arial"/>
              </a:rPr>
              <a:t>Acciones a llevar adelante </a:t>
            </a:r>
            <a:endParaRPr b="0" lang="en-US" sz="3200" spc="-1" strike="noStrike">
              <a:solidFill>
                <a:srgbClr val="000000"/>
              </a:solidFill>
              <a:latin typeface="Gill Sans MT"/>
            </a:endParaRPr>
          </a:p>
          <a:p>
            <a:pPr>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5f5f5f"/>
                </a:solidFill>
                <a:latin typeface="Arial"/>
              </a:rPr>
              <a:t>Probar las entregas de los bienes con certificación de las mismas  por parte de los entregadores o puertos receptores de las entregas. </a:t>
            </a:r>
            <a:endParaRPr b="0" lang="en-US" sz="2400" spc="-1" strike="noStrike">
              <a:solidFill>
                <a:srgbClr val="000000"/>
              </a:solidFill>
              <a:latin typeface="Gill Sans MT"/>
            </a:endParaRPr>
          </a:p>
          <a:p>
            <a:pPr>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5f5f5f"/>
                </a:solidFill>
                <a:latin typeface="Arial"/>
              </a:rPr>
              <a:t>Respecto de los pagos haber cumplido con todas las disposiciones vigentes de retenciones , medios de pagos, registración y preparar pericias contables que lo demuestren. </a:t>
            </a:r>
            <a:endParaRPr b="0" lang="en-US" sz="2400" spc="-1" strike="noStrike">
              <a:solidFill>
                <a:srgbClr val="000000"/>
              </a:solidFill>
              <a:latin typeface="Gill Sans MT"/>
            </a:endParaRPr>
          </a:p>
          <a:p>
            <a:pPr>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5f5f5f"/>
                </a:solidFill>
                <a:latin typeface="Arial"/>
              </a:rPr>
              <a:t>Respectos de los proveedores inscripciones  en los registros de ONCCA – AFIP – Otros , así como otros antecedentes. </a:t>
            </a:r>
            <a:endParaRPr b="0" lang="en-US" sz="2400" spc="-1" strike="noStrike">
              <a:solidFill>
                <a:srgbClr val="000000"/>
              </a:solidFill>
              <a:latin typeface="Gill Sans MT"/>
            </a:endParaRPr>
          </a:p>
          <a:p>
            <a:pPr>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5f5f5f"/>
                </a:solidFill>
                <a:latin typeface="Arial"/>
              </a:rPr>
              <a:t>Tener toda la documentación de entregas (CP-remitos), ordenes de pago , facturas, recibos y registración contables. </a:t>
            </a:r>
            <a:endParaRPr b="0" lang="en-US" sz="2400" spc="-1" strike="noStrike">
              <a:solidFill>
                <a:srgbClr val="000000"/>
              </a:solidFill>
              <a:latin typeface="Gill Sans MT"/>
            </a:endParaRPr>
          </a:p>
          <a:p>
            <a:pPr>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3 Rectángulo"/>
          <p:cNvSpPr/>
          <p:nvPr/>
        </p:nvSpPr>
        <p:spPr>
          <a:xfrm>
            <a:off x="1042920" y="907920"/>
            <a:ext cx="78501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Gill Sans MT"/>
              </a:rPr>
              <a:t>Diagnostico</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ill Sans MT"/>
              </a:rPr>
              <a:t>En los últimos meses hemos observado de parte de la AFIP una actitud extremadamente pro fisco en la aplicación de criterios que permitan determinar o no la valides de las operaciones de compras de Granos, oleaginosas o productos industrializados de origen agropecuario.</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ill Sans MT"/>
              </a:rPr>
              <a:t> </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ill Sans MT"/>
              </a:rPr>
              <a:t>Es importante destacar que nos referimos a aquellas operaciones donde: </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ill Sans MT"/>
              </a:rPr>
              <a:t>se ha verificado la operación,</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ill Sans MT"/>
              </a:rPr>
              <a:t>que la misma se realizó con un sujeto inscripto, </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ill Sans MT"/>
              </a:rPr>
              <a:t>que se comprobó la entrega de los bienes en cuestión,</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ill Sans MT"/>
              </a:rPr>
              <a:t>que se utilizaron los medios de pago establecidos por la dirección, </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ill Sans MT"/>
              </a:rPr>
              <a:t> </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ill Sans MT"/>
              </a:rPr>
              <a:t>En resumen que se cumplió con todo los requisitos de un buen hombre de negocios y que no obstante esto la Dirección al verificar que no se ha ingresado el impuesto al fisco aplicando un principio de solidaridad que nos está presente en nuestra normativa impugna los créditos fundado en un criterio de falta de capacidad operativa suficiente del vendedor y no a los típicos casos de usinas de facturas o facturación apócrifa.</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3 Rectángulo"/>
          <p:cNvSpPr/>
          <p:nvPr/>
        </p:nvSpPr>
        <p:spPr>
          <a:xfrm>
            <a:off x="1042920" y="907920"/>
            <a:ext cx="78501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Gill Sans MT"/>
              </a:rPr>
              <a:t>Diagnostico</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Gill Sans MT"/>
              </a:rPr>
              <a:t>La AFIP ha optado por no solo impugnar los créditos fiscales de IVA sino también impugnar la deducción de la compra en el Impuestos a las Ganancias y determinar salidas no Documentadas.</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Gill Sans MT"/>
              </a:rPr>
              <a:t>Por lo que nos encontramos con una determinación que incluyendo intereses en muchos casos arribamos a determinaciones que llegan hasta el  180 % del valor de la mercadería adquirida oportunamente. </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2 Rectángulo"/>
          <p:cNvSpPr/>
          <p:nvPr/>
        </p:nvSpPr>
        <p:spPr>
          <a:xfrm>
            <a:off x="1062000" y="50760"/>
            <a:ext cx="78487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Gill Sans MT"/>
              </a:rPr>
              <a:t>Diagnostico</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ill Sans MT"/>
              </a:rPr>
              <a:t>Si profundizamos las últimas determinaciones realizadas por el fisco podemos observar que:</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ill Sans MT"/>
              </a:rPr>
              <a:t>En general no se ha cuestionado el modo de facturación ni la operatoria llevada a cabo sino que no fue posible comprobar la capacidad operativa en el sujeto vendedor.</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ill Sans MT"/>
              </a:rPr>
              <a:t>No impugna la realidad de las operaciones sino la identidad de los verdaderos proveedores.</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ill Sans MT"/>
              </a:rPr>
              <a:t>Que tales proveedores sirven para ocultar la verdadera identidad de los proveedores intervinientes, evitando así que se configure a su respecto el hecho imponible del impuesto, dispensándole de cumplimiento de sus obligaciones fiscales.</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ill Sans MT"/>
              </a:rPr>
              <a:t>Si analizamos en detalle el sostén técnico para considerar que el crédito no resulta computable nos encontramos con una interpretación en principio muy forzada del último párrafo del artículo 12 de la ley del tributo basado en lo descripto en el punto anterior.</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1 Rectángulo"/>
          <p:cNvSpPr/>
          <p:nvPr/>
        </p:nvSpPr>
        <p:spPr>
          <a:xfrm>
            <a:off x="1366920" y="115920"/>
            <a:ext cx="7777080" cy="688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Gill Sans MT"/>
              </a:rPr>
              <a:t>Diagnostico</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ill Sans MT"/>
              </a:rPr>
              <a:t>Ultimo párrafo del artículo 12 de la ley del tributo </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Gill Sans MT"/>
              </a:rPr>
              <a:t>“</a:t>
            </a:r>
            <a:r>
              <a:rPr b="1" lang="es-AR" sz="1800" spc="-1" strike="noStrike">
                <a:solidFill>
                  <a:srgbClr val="000000"/>
                </a:solidFill>
                <a:latin typeface="Gill Sans MT"/>
              </a:rPr>
              <a:t>En todos los casos, el cómputo del crédito fiscal será procedente cuando la compra o importación definitiva de bienes, locaciones y prestaciones de servicios, gravadas, hubieren perfeccionado, respecto del vendedor, importador, locador o prestador de servicios, los respectivos hechos imponibles de acuerdo a lo previsto en los artículos 5º y 6º, excepto cuando dicho crédito provenga de las prestaciones a que se refiere el inciso d), del artículo 1º, en cuyo caso su cómputo procederá en el período fiscal inmediato siguiente a aquel en el que se perfeccionó el hecho imponible que lo origina”</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ill Sans MT"/>
              </a:rPr>
              <a:t> </a:t>
            </a:r>
            <a:r>
              <a:rPr b="0" lang="es-AR" sz="1600" spc="-1" strike="noStrike">
                <a:solidFill>
                  <a:srgbClr val="000000"/>
                </a:solidFill>
                <a:latin typeface="Gill Sans MT"/>
              </a:rPr>
              <a:t>La AFIP-DGI injustificadamente intenta sostener esta posición para no aceptar las consecuencias que naturalmente se desprenderían del razonamiento correcto, AFIP cuenta con las facultades otorgadas por la Ley 11683 para proceder a la verificación, fiscalización, determinación y cobro de la deuda impositiva nacida en cabeza de los verdaderos proveedores intervinientes.</a:t>
            </a:r>
            <a:endParaRPr b="0" lang="en-US" sz="16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Similar error comete al afirmar que convalidar el computo de un proveedor impugnado importaría convalidar una maniobra defraudatoria por la cual el fisco aprobaría un crédito que al fisco no se ha ingresado. Cuando en la Ley de IVA no existe la figura del responsable solidario o que un debito fiscal  debe ser ingresado para que resulte valido su computo como crédito fiscal.  </a:t>
            </a:r>
            <a:endParaRPr b="0" lang="en-US" sz="16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Rectangle 2"/>
          <p:cNvSpPr/>
          <p:nvPr/>
        </p:nvSpPr>
        <p:spPr>
          <a:xfrm>
            <a:off x="1042920" y="-1002600"/>
            <a:ext cx="7850160" cy="9406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u="sng">
                <a:solidFill>
                  <a:srgbClr val="000000"/>
                </a:solidFill>
                <a:uFillTx/>
                <a:latin typeface="Arial"/>
                <a:ea typeface="Calibri"/>
              </a:rPr>
              <a:t>Jurisprudencia  antecedentes negativos para el contribuyente</a:t>
            </a:r>
            <a:endParaRPr b="0" lang="en-US" sz="1800" spc="-1" strike="noStrike">
              <a:solidFill>
                <a:srgbClr val="000000"/>
              </a:solidFill>
              <a:latin typeface="Gill Sans MT"/>
            </a:endParaRPr>
          </a:p>
          <a:p>
            <a:pPr lvl="1" marL="45720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Garamond"/>
                <a:ea typeface="Calibri"/>
              </a:rPr>
              <a:t>Louis Dreyfus y Cía. Ltada. c/ EN AFIP-DGI Resol. 267/05 </a:t>
            </a:r>
            <a:r>
              <a:rPr b="0" lang="es-AR" sz="1800" spc="-1" strike="noStrike">
                <a:solidFill>
                  <a:srgbClr val="000000"/>
                </a:solidFill>
                <a:latin typeface="Garamond"/>
                <a:ea typeface="Calibri"/>
              </a:rPr>
              <a:t>La AFIP cuestionó la veracidad de ciertas operaciones locales de compraventa de cereales cuya posterior exportación dio origen a un pedido de devolución de créditos fiscales denegado por el organismo fiscal.</a:t>
            </a:r>
            <a:endParaRPr b="0" lang="en-US" sz="1800" spc="-1" strike="noStrike">
              <a:solidFill>
                <a:srgbClr val="000000"/>
              </a:solidFill>
              <a:latin typeface="Gill Sans MT"/>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aramond"/>
                <a:ea typeface="Calibri"/>
              </a:rPr>
              <a:t>A pesar de la prueba producida por la actora, la Cámara concluyó que </a:t>
            </a:r>
            <a:r>
              <a:rPr b="0" i="1" lang="es-AR" sz="1800" spc="-1" strike="noStrike">
                <a:solidFill>
                  <a:srgbClr val="000000"/>
                </a:solidFill>
                <a:latin typeface="Garamond"/>
                <a:ea typeface="Calibri"/>
              </a:rPr>
              <a:t>“los esfuerzos de la recurrente enderezados a demostrar el cumplimiento de los requisitos establecidos para la procedencia de la devolución pretendida, omiten considerar que se han impugnado los documentos acompañados por no corresponderse con la realidad y se ha verificado la falta de ingreso de las sumas reclamadas a través de la maniobra descripta. A lo que cabe agregar que, si bien, como se dijo en ‘Tradigrain’, el 18 de octubre de 2006, el solicitante no tiene la carga de rastrar y hallar la prueba del efectivo ingreso de las sumas que le fueron retenidas, lo que ocurre en el caso es que se ha demostrado precisamente lo contrario, esto es, la falta de percepción por parte del Fisco de aquéllas (…) y la ilegitimidad de la documental aportada …”. </a:t>
            </a:r>
            <a:r>
              <a:rPr b="0" lang="es-AR" sz="1800" spc="-1" strike="noStrike">
                <a:solidFill>
                  <a:srgbClr val="000000"/>
                </a:solidFill>
                <a:latin typeface="Garamond"/>
                <a:ea typeface="Calibri"/>
              </a:rPr>
              <a:t>Asimismo la Cámara descartó la relevancia probatoria de la intervención de las Bolsas de Cereales en las operaciones en cuestión.</a:t>
            </a:r>
            <a:endParaRPr b="0" lang="en-US" sz="1800" spc="-1" strike="noStrike">
              <a:solidFill>
                <a:srgbClr val="000000"/>
              </a:solidFill>
              <a:latin typeface="Gill Sans MT"/>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aramond"/>
                <a:ea typeface="Calibri"/>
              </a:rPr>
              <a:t>Adelantamos nuestra opinión en el sentido de la errónea interpretación que efectúa la Cámara respecto del fallo </a:t>
            </a:r>
            <a:r>
              <a:rPr b="0" i="1" lang="es-AR" sz="1800" spc="-1" strike="noStrike">
                <a:solidFill>
                  <a:srgbClr val="000000"/>
                </a:solidFill>
                <a:latin typeface="Garamond"/>
                <a:ea typeface="Calibri"/>
              </a:rPr>
              <a:t>“Tradigrain”</a:t>
            </a:r>
            <a:r>
              <a:rPr b="0" lang="es-AR" sz="1800" spc="-1" strike="noStrike">
                <a:solidFill>
                  <a:srgbClr val="000000"/>
                </a:solidFill>
                <a:latin typeface="Garamond"/>
                <a:ea typeface="Calibri"/>
              </a:rPr>
              <a:t> -que luego comentaremos- en tanto, a los fines de la procedencia del reintegro, este precedente priva de toda relevancia a la circunstancia de que el agente de percepción haya ingresado o no el IVA recaudado. Consecuentemente, aún cuando en el caso que se comenta hubiera quedado eventualmente acreditada la falta de ingreso del IVA por parte de los proveedores, esta circunstancia de ninguna manera podría tornar inaplicables las conclusiones del precedente mencionado.</a:t>
            </a: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1 Rectángulo"/>
          <p:cNvSpPr/>
          <p:nvPr/>
        </p:nvSpPr>
        <p:spPr>
          <a:xfrm>
            <a:off x="1187280" y="115920"/>
            <a:ext cx="7848720" cy="792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aramond"/>
                <a:ea typeface="Times New Roman"/>
              </a:rPr>
              <a:t>• </a:t>
            </a:r>
            <a:r>
              <a:rPr b="1" i="1" lang="es-AR" sz="1800" spc="-1" strike="noStrike">
                <a:solidFill>
                  <a:srgbClr val="000000"/>
                </a:solidFill>
                <a:latin typeface="Garamond"/>
                <a:ea typeface="Times New Roman"/>
              </a:rPr>
              <a:t>Productos Agroindustriales S.R.L.</a:t>
            </a:r>
            <a:r>
              <a:rPr b="1" lang="es-AR" sz="1800" spc="-1" strike="noStrike">
                <a:solidFill>
                  <a:srgbClr val="000000"/>
                </a:solidFill>
                <a:latin typeface="Garamond"/>
                <a:ea typeface="Times New Roman"/>
              </a:rPr>
              <a:t>: </a:t>
            </a:r>
            <a:r>
              <a:rPr b="0" lang="es-AR" sz="1800" spc="-1" strike="noStrike">
                <a:solidFill>
                  <a:srgbClr val="000000"/>
                </a:solidFill>
                <a:latin typeface="Garamond"/>
                <a:ea typeface="Times New Roman"/>
              </a:rPr>
              <a:t>En este caso, el Fisco Nacional determinó el IVA como consecuencia de la impugnación de créditos fiscales generados por la realización de operaciones con proveedores supuestamente apócrifos que serían “prestanombres” utilizados para blanquear cereal adquirido marginalmente. </a:t>
            </a:r>
            <a:endParaRPr b="0" lang="en-US" sz="1800" spc="-1" strike="noStrike">
              <a:solidFill>
                <a:srgbClr val="000000"/>
              </a:solidFill>
              <a:latin typeface="Gill Sans MT"/>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aramond"/>
                <a:ea typeface="Times New Roman"/>
              </a:rPr>
              <a:t>Sin perjuicio de que la apelante efectuó las retenciones de IVA correspondientes a dichas operaciones, el Tribunal Fiscal de la Nación (en adelante, el “Tribunal Fiscal”) confirmó la resolución apelada sosteniendo que la impugnación del crédito fiscal había sido ponderada correctamente, toda vez que el ente fiscalizador </a:t>
            </a:r>
            <a:r>
              <a:rPr b="0" i="1" lang="es-AR" sz="1800" spc="-1" strike="noStrike">
                <a:solidFill>
                  <a:srgbClr val="000000"/>
                </a:solidFill>
                <a:latin typeface="Garamond"/>
                <a:ea typeface="Times New Roman"/>
              </a:rPr>
              <a:t>“sustentó su pretensión objetiva a través de elementos concretos y razonables”</a:t>
            </a:r>
            <a:r>
              <a:rPr b="0" lang="es-AR" sz="1800" spc="-1" strike="noStrike">
                <a:solidFill>
                  <a:srgbClr val="000000"/>
                </a:solidFill>
                <a:latin typeface="Garamond"/>
                <a:ea typeface="Times New Roman"/>
              </a:rPr>
              <a:t> tales como: </a:t>
            </a:r>
            <a:r>
              <a:rPr b="0" lang="es-AR" sz="1800" spc="-1" strike="noStrike" u="sng">
                <a:solidFill>
                  <a:srgbClr val="000000"/>
                </a:solidFill>
                <a:uFillTx/>
                <a:latin typeface="Garamond"/>
                <a:ea typeface="Times New Roman"/>
              </a:rPr>
              <a:t>(i)</a:t>
            </a:r>
            <a:r>
              <a:rPr b="0" lang="es-AR" sz="1800" spc="-1" strike="noStrike">
                <a:solidFill>
                  <a:srgbClr val="000000"/>
                </a:solidFill>
                <a:latin typeface="Garamond"/>
                <a:ea typeface="Times New Roman"/>
              </a:rPr>
              <a:t> la no localización de los proveedores en los domicilios fiscales; </a:t>
            </a:r>
            <a:r>
              <a:rPr b="0" lang="es-AR" sz="1800" spc="-1" strike="noStrike" u="sng">
                <a:solidFill>
                  <a:srgbClr val="000000"/>
                </a:solidFill>
                <a:uFillTx/>
                <a:latin typeface="Garamond"/>
                <a:ea typeface="Times New Roman"/>
              </a:rPr>
              <a:t>(ii)</a:t>
            </a:r>
            <a:r>
              <a:rPr b="0" lang="es-AR" sz="1800" spc="-1" strike="noStrike">
                <a:solidFill>
                  <a:srgbClr val="000000"/>
                </a:solidFill>
                <a:latin typeface="Garamond"/>
                <a:ea typeface="Times New Roman"/>
              </a:rPr>
              <a:t> la no presentación de declaraciones juradas en el Impuesto a las Ganancias; </a:t>
            </a:r>
            <a:r>
              <a:rPr b="0" lang="es-AR" sz="1800" spc="-1" strike="noStrike" u="sng">
                <a:solidFill>
                  <a:srgbClr val="000000"/>
                </a:solidFill>
                <a:uFillTx/>
                <a:latin typeface="Garamond"/>
                <a:ea typeface="Times New Roman"/>
              </a:rPr>
              <a:t>(iii)</a:t>
            </a:r>
            <a:r>
              <a:rPr b="0" lang="es-AR" sz="1800" spc="-1" strike="noStrike">
                <a:solidFill>
                  <a:srgbClr val="000000"/>
                </a:solidFill>
                <a:latin typeface="Garamond"/>
                <a:ea typeface="Times New Roman"/>
              </a:rPr>
              <a:t> la producción de grandes cantidades de cereal en comparación con la superficie del campo arrendado; </a:t>
            </a:r>
            <a:r>
              <a:rPr b="0" lang="es-AR" sz="1800" spc="-1" strike="noStrike" u="sng">
                <a:solidFill>
                  <a:srgbClr val="000000"/>
                </a:solidFill>
                <a:uFillTx/>
                <a:latin typeface="Garamond"/>
                <a:ea typeface="Times New Roman"/>
              </a:rPr>
              <a:t>(iv)</a:t>
            </a:r>
            <a:r>
              <a:rPr b="0" lang="es-AR" sz="1800" spc="-1" strike="noStrike">
                <a:solidFill>
                  <a:srgbClr val="000000"/>
                </a:solidFill>
                <a:latin typeface="Garamond"/>
                <a:ea typeface="Times New Roman"/>
              </a:rPr>
              <a:t> la inexistencia en las cuentas bancarias de los proveedores de importantes sumas de dinero a pesar de las grandes cantidades de cereal que comercializó con la apelante (nótese que en prácticamente ninguno de los períodos fiscales involucrados en este caso se encontraba vigente la Ley Antievasión 25.345) y </a:t>
            </a:r>
            <a:r>
              <a:rPr b="0" lang="es-AR" sz="1800" spc="-1" strike="noStrike" u="sng">
                <a:solidFill>
                  <a:srgbClr val="000000"/>
                </a:solidFill>
                <a:uFillTx/>
                <a:latin typeface="Garamond"/>
                <a:ea typeface="Times New Roman"/>
              </a:rPr>
              <a:t>(v)</a:t>
            </a:r>
            <a:r>
              <a:rPr b="0" lang="es-AR" sz="1800" spc="-1" strike="noStrike">
                <a:solidFill>
                  <a:srgbClr val="000000"/>
                </a:solidFill>
                <a:latin typeface="Garamond"/>
                <a:ea typeface="Times New Roman"/>
              </a:rPr>
              <a:t> la imposibilidad de encontrar a los arrendadores de los campos explotados por los proveedores cuestionados, sumada a la constatación de la inexistencia de bienes registrables en cabeza de dichos arrendadores.</a:t>
            </a:r>
            <a:endParaRPr b="0" lang="en-US" sz="1800" spc="-1" strike="noStrike">
              <a:solidFill>
                <a:srgbClr val="000000"/>
              </a:solidFill>
              <a:latin typeface="Gill Sans MT"/>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aramond"/>
                <a:ea typeface="Times New Roman"/>
              </a:rPr>
              <a:t>Surge claramente que ninguna de las cuestiones señaladas por el Fisco Nacional son susceptibles de ser conocidas por los adquirentes de mercaderías, resultando absolutamente improcedente la responsabilidad sustitutiva </a:t>
            </a:r>
            <a:r>
              <a:rPr b="0" i="1" lang="es-AR" sz="1800" spc="-1" strike="noStrike">
                <a:solidFill>
                  <a:srgbClr val="000000"/>
                </a:solidFill>
                <a:latin typeface="Garamond"/>
                <a:ea typeface="Times New Roman"/>
              </a:rPr>
              <a:t>sui generis</a:t>
            </a:r>
            <a:r>
              <a:rPr b="0" lang="es-AR" sz="1800" spc="-1" strike="noStrike">
                <a:solidFill>
                  <a:srgbClr val="000000"/>
                </a:solidFill>
                <a:latin typeface="Garamond"/>
                <a:ea typeface="Times New Roman"/>
              </a:rPr>
              <a:t> que se avala en el presente precedente.</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Rectangle 2"/>
          <p:cNvSpPr/>
          <p:nvPr/>
        </p:nvSpPr>
        <p:spPr>
          <a:xfrm>
            <a:off x="1042920" y="-164160"/>
            <a:ext cx="7850160" cy="772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u="sng">
                <a:solidFill>
                  <a:srgbClr val="000000"/>
                </a:solidFill>
                <a:uFillTx/>
                <a:latin typeface="Arial"/>
                <a:ea typeface="Calibri"/>
              </a:rPr>
              <a:t>Jurisprudencia  antecedentes positivos para el contribuyente</a:t>
            </a:r>
            <a:endParaRPr b="0" lang="en-US" sz="1800" spc="-1" strike="noStrike">
              <a:solidFill>
                <a:srgbClr val="000000"/>
              </a:solidFill>
              <a:latin typeface="Gill Sans MT"/>
            </a:endParaRPr>
          </a:p>
          <a:p>
            <a:pPr lvl="1" marL="45720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aramond"/>
                <a:ea typeface="Calibri"/>
              </a:rPr>
              <a:t>LDC Argentina S.A. c/ AFIP-DGI – Resolución 162/2001 s/ DG</a:t>
            </a:r>
            <a:r>
              <a:rPr b="1" lang="es-AR" sz="1800" spc="-1" strike="noStrike">
                <a:solidFill>
                  <a:srgbClr val="000000"/>
                </a:solidFill>
                <a:latin typeface="Garamond"/>
                <a:ea typeface="Calibri"/>
              </a:rPr>
              <a:t>: </a:t>
            </a:r>
            <a:r>
              <a:rPr b="0" lang="es-AR" sz="1800" spc="-1" strike="noStrike">
                <a:solidFill>
                  <a:srgbClr val="000000"/>
                </a:solidFill>
                <a:latin typeface="Garamond"/>
                <a:ea typeface="Calibri"/>
              </a:rPr>
              <a:t>En este caso la AFIP había rechazado ciertas solicitudes de devolución de IVA relacionado con determinadas operaciones de exportación.</a:t>
            </a:r>
            <a:endParaRPr b="0" lang="en-US" sz="1800" spc="-1" strike="noStrike">
              <a:solidFill>
                <a:srgbClr val="000000"/>
              </a:solidFill>
              <a:latin typeface="Gill Sans MT"/>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aramond"/>
                <a:ea typeface="Calibri"/>
              </a:rPr>
              <a:t>El juez de Primera Instancia hizo lugar a la demanda interpuesta. Para así decidir consideró que no podía válidamente exigírsele al contribuyente de hecho que adoptase medidas que excedieran el efectivo pago del tributo al agente involucrado, ni correspondía que éste ejerciera el eventual control del mecanismo seguido por el agente para la futura acreditación de las sumas en cuestión a la AFIP o la verificación de otros negocios llevados a cabo por dicho agente. Agregó el juez de grado, citando un precedente de la Sala II del fuero que el cumplimiento de las obligaciones por quien debió ingresar los importes no era una cuestión que competiera a la actora, sino que era la propia AFIP la que tenía como función ese control y para ello contaba con facultades que le reconocía la legislación.</a:t>
            </a:r>
            <a:endParaRPr b="0" lang="en-US" sz="1800" spc="-1" strike="noStrike">
              <a:solidFill>
                <a:srgbClr val="000000"/>
              </a:solidFill>
              <a:latin typeface="Gill Sans MT"/>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aramond"/>
                <a:ea typeface="Calibri"/>
              </a:rPr>
              <a:t>La Cámara compartió el criterio de Primera Instancia y agregó que con relación al requisito consistente en comprobar la veracidad de las operaciones, la obligación de LDC estaba limitada a verificar que la facturación emitida por el corredor fuera correcta y concordara con lo motivos y calidad de las mercaderías declaradas, porque, según la Resolución General (DGI) 3419/1991 -actualizada por la Resolución General (AFIP) 1415/2003- es el corredor quien debe emitir la factura y se debe equiparar al vendedor a los efectos del IVA.</a:t>
            </a: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1 Rectángulo"/>
          <p:cNvSpPr/>
          <p:nvPr/>
        </p:nvSpPr>
        <p:spPr>
          <a:xfrm>
            <a:off x="1187280" y="692280"/>
            <a:ext cx="7848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 </a:t>
            </a:r>
            <a:endParaRPr b="0" lang="en-US" sz="1600" spc="-1" strike="noStrike">
              <a:solidFill>
                <a:srgbClr val="000000"/>
              </a:solidFill>
              <a:latin typeface="Gill Sans MT"/>
            </a:endParaRPr>
          </a:p>
        </p:txBody>
      </p:sp>
      <p:sp>
        <p:nvSpPr>
          <p:cNvPr id="328" name="1 Rectángulo"/>
          <p:cNvSpPr/>
          <p:nvPr/>
        </p:nvSpPr>
        <p:spPr>
          <a:xfrm>
            <a:off x="1295280" y="189000"/>
            <a:ext cx="7848720" cy="785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000000"/>
                </a:solidFill>
                <a:latin typeface="Garamond"/>
                <a:ea typeface="Times New Roman"/>
              </a:rPr>
              <a:t>Tradigrain c/ EN-AFI: </a:t>
            </a:r>
            <a:r>
              <a:rPr b="0" lang="es-AR" sz="1800" spc="-1" strike="noStrike">
                <a:solidFill>
                  <a:srgbClr val="000000"/>
                </a:solidFill>
                <a:latin typeface="Garamond"/>
                <a:ea typeface="Times New Roman"/>
              </a:rPr>
              <a:t>En el caso la AFIP denegó una solicitud de reintegro del IVA facturado en relación a ciertas operaciones de exportación por considerar que: </a:t>
            </a:r>
            <a:r>
              <a:rPr b="0" lang="es-AR" sz="1800" spc="-1" strike="noStrike" u="sng">
                <a:solidFill>
                  <a:srgbClr val="000000"/>
                </a:solidFill>
                <a:uFillTx/>
                <a:latin typeface="Garamond"/>
                <a:ea typeface="Times New Roman"/>
              </a:rPr>
              <a:t>(i)</a:t>
            </a:r>
            <a:r>
              <a:rPr b="0" lang="es-AR" sz="1800" spc="-1" strike="noStrike">
                <a:solidFill>
                  <a:srgbClr val="000000"/>
                </a:solidFill>
                <a:latin typeface="Garamond"/>
                <a:ea typeface="Times New Roman"/>
              </a:rPr>
              <a:t> algunos proveedores no fueron localizados; </a:t>
            </a:r>
            <a:r>
              <a:rPr b="0" lang="es-AR" sz="1800" spc="-1" strike="noStrike" u="sng">
                <a:solidFill>
                  <a:srgbClr val="000000"/>
                </a:solidFill>
                <a:uFillTx/>
                <a:latin typeface="Garamond"/>
                <a:ea typeface="Times New Roman"/>
              </a:rPr>
              <a:t>(ii)</a:t>
            </a:r>
            <a:r>
              <a:rPr b="0" lang="es-AR" sz="1800" spc="-1" strike="noStrike">
                <a:solidFill>
                  <a:srgbClr val="000000"/>
                </a:solidFill>
                <a:latin typeface="Garamond"/>
                <a:ea typeface="Times New Roman"/>
              </a:rPr>
              <a:t> otros proveedores no cumplieron con su obligación de presentar su declaración jurada, o las presentaron declarando un débito fiscal igual a cero o en algunos casos superior al declarado por el exportador y </a:t>
            </a:r>
            <a:r>
              <a:rPr b="0" lang="es-AR" sz="1800" spc="-1" strike="noStrike" u="sng">
                <a:solidFill>
                  <a:srgbClr val="000000"/>
                </a:solidFill>
                <a:uFillTx/>
                <a:latin typeface="Garamond"/>
                <a:ea typeface="Times New Roman"/>
              </a:rPr>
              <a:t>(iii)</a:t>
            </a:r>
            <a:r>
              <a:rPr b="0" lang="es-AR" sz="1800" spc="-1" strike="noStrike">
                <a:solidFill>
                  <a:srgbClr val="000000"/>
                </a:solidFill>
                <a:latin typeface="Garamond"/>
                <a:ea typeface="Times New Roman"/>
              </a:rPr>
              <a:t> otros proveedores no figuraban inscriptos en el Registro Público de Comercio.</a:t>
            </a:r>
            <a:endParaRPr b="0" lang="en-US" sz="1800" spc="-1" strike="noStrike">
              <a:solidFill>
                <a:srgbClr val="000000"/>
              </a:solidFill>
              <a:latin typeface="Gill Sans MT"/>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aramond"/>
                <a:ea typeface="Times New Roman"/>
              </a:rPr>
              <a:t>La Cámara revocó la sentencia de primera instancia e hizo lugar a la pretensión de la apelante por considerar que </a:t>
            </a:r>
            <a:r>
              <a:rPr b="0" i="1" lang="es-AR" sz="1800" spc="-1" strike="noStrike">
                <a:solidFill>
                  <a:srgbClr val="000000"/>
                </a:solidFill>
                <a:latin typeface="Garamond"/>
                <a:ea typeface="Times New Roman"/>
              </a:rPr>
              <a:t>“la parte actora aportó los elementos necesarios para solicitar el reintegro. A las actuaciones administrativas agregó las facturas; en esta instancia fotocopias de cartas de porte, certificados de descarga, boletos de compra y venta, etc., y las certificaciones de la documentación agregada, la constancia del registro en el Libro IVA Compras de la actora y una información pericial donde se expresa que no se han observado infracciones a los requisitos y formalidades de emisión de las facturas establecidos por la resolución general 3419. </a:t>
            </a:r>
            <a:r>
              <a:rPr b="0" lang="es-AR" sz="1800" spc="-1" strike="noStrike">
                <a:solidFill>
                  <a:srgbClr val="000000"/>
                </a:solidFill>
                <a:latin typeface="Garamond"/>
                <a:ea typeface="Times New Roman"/>
              </a:rPr>
              <a:t>El precedente </a:t>
            </a:r>
            <a:r>
              <a:rPr b="0" i="1" lang="es-AR" sz="1800" spc="-1" strike="noStrike">
                <a:solidFill>
                  <a:srgbClr val="000000"/>
                </a:solidFill>
                <a:latin typeface="Garamond"/>
                <a:ea typeface="Times New Roman"/>
              </a:rPr>
              <a:t>“Tradigrain”</a:t>
            </a:r>
            <a:r>
              <a:rPr b="0" lang="es-AR" sz="1800" spc="-1" strike="noStrike">
                <a:solidFill>
                  <a:srgbClr val="000000"/>
                </a:solidFill>
                <a:latin typeface="Garamond"/>
                <a:ea typeface="Times New Roman"/>
              </a:rPr>
              <a:t> deslinda correctamente aquellas exigencias que efectivamente pueden formularse al comprador de aquellas que no se le pueden efectuar por referirse a cuestiones que se encuentran absolutamente fuera de su ámbito de incumbencia y de su posibilidad de control. </a:t>
            </a:r>
            <a:r>
              <a:rPr b="1" lang="es-AR" sz="1800" spc="-1" strike="noStrike">
                <a:solidFill>
                  <a:srgbClr val="000000"/>
                </a:solidFill>
                <a:latin typeface="Garamond"/>
                <a:ea typeface="Times New Roman"/>
              </a:rPr>
              <a:t>Así la Cámara rechazó la pretensión fiscal de trasladar al contribuyente tareas y responsabilidades de verificación y fiscalización que competen exclusivamente a la AFIP. Ello, pues sólo el organismo fiscal posee el acceso a la información cuyo aporte se exige a los adquirentes bajo apercibimiento de impugnar las operaciones cuestionadas.</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9T16:46:36Z</dcterms:created>
  <dc:creator>Marcelo Maroevich</dc:creator>
  <dc:description/>
  <dc:language>en-US</dc:language>
  <cp:lastModifiedBy>mgonzalez</cp:lastModifiedBy>
  <dcterms:modified xsi:type="dcterms:W3CDTF">2012-06-11T18:11:17Z</dcterms:modified>
  <cp:revision>24</cp:revision>
  <dc:subject/>
  <dc:title>Veracidad de las operaciones</dc:title>
</cp:coreProperties>
</file>